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367E-C5D6-4B5B-A96F-951390A4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828440" y="424476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3FB4-4AE9-4689-AB9F-606BEAF7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45508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F1E1-A926-49E8-B90F-43D4D4D56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2172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1464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82844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22172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1464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1D1A-5826-403C-A703-A8E7BD97D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B2CE-CCAB-410C-B82A-BF0FB912F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EA4C-CBDE-4234-A53B-EE0A8169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9809-C783-4218-A237-CB5D3128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FC98-D0BB-4A38-A303-B11D2F7A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DB5B-EC95-4BBC-9F90-2FCB1166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828440" y="188640"/>
            <a:ext cx="7077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0655-51EB-4870-8FC3-16529CCE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DE6D-1F12-4621-B64D-1C65F598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4055-6418-42BA-AEE3-F1212B5F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5508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EAEF-2D14-4C32-855B-EF19D355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0F39-FFA4-48FB-8B73-06459CEC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828440" y="424476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2BE3-EEEB-4D5D-9E11-DB121755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5508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DFF3-E321-421F-A36D-FAE2ACB68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2172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1464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82844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22172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1464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F893-C443-44BA-945C-1C5D8B9DE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86192-0EBD-41F8-9964-8632A5E42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1AD50-AEC2-4300-A26A-C52F6254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2F1C6-5C8F-4FAC-B1F3-91496A9B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D09D9-69D2-4626-B20D-93EB152F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A899E-8262-4379-9971-208B5D26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6B09-8E5E-4E25-9FD3-6AED82C8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828440" y="188640"/>
            <a:ext cx="7077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6731C-9D66-470F-859F-9743B74F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750EB-90DC-4C73-B5C8-E3D67B68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45508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DA138-F6F7-4761-8646-38A79374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2F907-6E77-467A-B96F-D4DE5E27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828440" y="424476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387B4-5986-4833-92F8-89501DB3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45508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05617-DE7D-4DCF-86CB-2F73EE854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2172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61464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82844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22172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61464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A88FC-487B-494E-BF6D-EED4EC791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B6AE3-8FC6-4E12-B97E-0BD0BF4EA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CD081-4A3E-425E-BFBA-9E2115E5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D96F8-C8E0-403C-A8E7-1EC3A275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9921-836B-45CE-BC24-6E144696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44830-E915-4D5D-84C8-713A89AA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75466-8B84-4D3E-A301-98FCFF63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828440" y="188640"/>
            <a:ext cx="7077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26CCB-21D9-4652-AC70-14ABEA00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74641-B70F-4470-B0E4-FF2B487E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45508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E2850-99ED-4D8B-84BD-F4F6402C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F77F0-2A7A-4251-BA6F-996FAB95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828440" y="424476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D244E-057F-45A4-B6CF-204EE4D5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45508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FC2E7-6DE3-4F9B-9ECD-AA5099759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2172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61464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82844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22172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61464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72B78-0689-48C7-B8F2-B9A167F24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D167-F820-44FF-80ED-5DC93B90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28440" y="188640"/>
            <a:ext cx="7077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40A2-3200-4F6D-8E83-85D1E769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B6F3-D827-43F1-9235-31DC92FE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45508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99D4-8583-4819-8CE2-67E764FF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5C99-C4F5-4882-99D3-0C18F54E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9D71-37E2-4474-B7BB-A4CB9B7F0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A8A0-1FB4-44DC-BCBD-D4FD0BF35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0E6C-5A96-4F0D-BE2F-1861F5742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ED27-278D-4319-9B07-5C4BED1ADB15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952520"/>
            <a:ext cx="86868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aising Entrepreneurial Capital 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04920" y="5810040"/>
            <a:ext cx="868680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Tahoma"/>
              </a:rPr>
              <a:t>Chapter 9: Franchisi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Failure rate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hile new business start-ups fail at a rate estimated in the 70% range during their first five years in business, the failure rate among new franchises is far lower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ome sources cite the failure rate as low as 5%, but it is important to note that this is the failure of the </a:t>
            </a:r>
            <a:r>
              <a:rPr b="0" i="1" lang="en-US" sz="3200" spc="-1" strike="noStrike">
                <a:solidFill>
                  <a:srgbClr val="080808"/>
                </a:solidFill>
                <a:latin typeface="Tahoma"/>
              </a:rPr>
              <a:t>franchise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not the franchisee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Lowering operating cost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Tahoma"/>
              </a:rPr>
              <a:t>Centralized functions that can achieve economies of scale are most efficiently carried out by the franchiser. </a:t>
            </a:r>
            <a:endParaRPr b="0" lang="en-US" sz="3000" spc="-1" strike="noStrike">
              <a:solidFill>
                <a:srgbClr val="080808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Tahoma"/>
              </a:rPr>
              <a:t>Cost savings due to scale can be achieved in purchasing and advertising for example and passed on to the franchisee. </a:t>
            </a:r>
            <a:endParaRPr b="0" lang="en-US" sz="3000" spc="-1" strike="noStrike">
              <a:solidFill>
                <a:srgbClr val="080808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Tahoma"/>
              </a:rPr>
              <a:t>Local site improvements are generally best carried out by the franchisee. </a:t>
            </a:r>
            <a:endParaRPr b="0" lang="en-US" sz="3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Drawbacks to franchising 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e franchisee must share the wealth through royalties and other fees and expenses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e amount of time and effort devoted to launching and running the business is similar to any other entrepreneurial venture but the entrepreneur relinquishes a degree of control and independence to the franchiser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osts to enter a franchise 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Vary dramatically by the type and market share of the franchise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Initial franchise fees, the cost to buy into the franchise, range from under $10,000 to several million dollars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e average franchise fee is under $250,000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Due diligence and the UFOC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ranchisee's primary tool is the Uniform Franchise Offering Circular (UFOC)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s document, required of all franchisers since 1979, is essentially a prospectus describing the business and the opportunity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It is required by the FTC and must be supplied by the franchiser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More due diligence 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Interview several current franchisees and as many as feasible of the ones who have left. Find out the reasons that those people leaving the system left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sk current franchisees whether they would invest in this franchise if they had it to do over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sk about profitability and time to break even for their franchise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Initial investmen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ypical startup investment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Most franchisers want you to have at least some of your own cash to cover part of the initial start up costs, often 20%-50% of the franchise fee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ash flow is likely to be tight in the first year or two and debt service payments might be enough to push the fragile franchise into unprofitability or worse.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Franchiser financing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Tahoma"/>
              </a:rPr>
              <a:t>Many franchisers provide financial help in some way. Often it is through an established relationship with a lender. </a:t>
            </a:r>
            <a:endParaRPr b="0" lang="en-US" sz="3000" spc="-1" strike="noStrike">
              <a:solidFill>
                <a:srgbClr val="080808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Tahoma"/>
              </a:rPr>
              <a:t>Frequent lender is familiar with the business model and the cash flow needs of the franchise at start up. </a:t>
            </a:r>
            <a:endParaRPr b="0" lang="en-US" sz="3000" spc="-1" strike="noStrike">
              <a:solidFill>
                <a:srgbClr val="080808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Tahoma"/>
              </a:rPr>
              <a:t>Some franchisers provide financing themselves, and some obtain financing on behalf of the franchisee. </a:t>
            </a:r>
            <a:endParaRPr b="0" lang="en-US" sz="3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BA financing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Tahoma"/>
              </a:rPr>
              <a:t>The U.S. Small Business Administration has been guaranteeing loans for franchisees since 1993. </a:t>
            </a:r>
            <a:endParaRPr b="0" lang="en-US" sz="3000" spc="-1" strike="noStrike">
              <a:solidFill>
                <a:srgbClr val="080808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Tahoma"/>
              </a:rPr>
              <a:t>Franchisers may register with the SBA Franchise Registry. Optional, and does not convey approval by the SBA, but  is a mechanism to expedite financing. </a:t>
            </a:r>
            <a:endParaRPr b="0" lang="en-US" sz="3000" spc="-1" strike="noStrike">
              <a:solidFill>
                <a:srgbClr val="080808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Tahoma"/>
              </a:rPr>
              <a:t>Franchiser’s application is approved once, for as long as the franchiser retains the terms of the franchising agreement. </a:t>
            </a:r>
            <a:endParaRPr b="0" lang="en-US" sz="3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BA financing advantage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BA loan guarantees cover 85% - 90% of the loan amount. Loans are made for general purposes, including the franchise fee, and for real estate acquisition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Loan maturity can extend to twenty-five years, rather than the 2-4 years typical of a commercial bank loan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Franchises are big busines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In the US nearly half of all retail sales occur through 3,000+ franchises, and total a trillion dollars in sales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ranchises exist worldwide. Ten percent of retail in the United Kingdom, France and Australia is carried out in franchises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BA term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80808"/>
                </a:solidFill>
                <a:latin typeface="Tahoma"/>
              </a:rPr>
              <a:t>The SBA prefers that the borrower have 30% of the franchise fee in cash before a loan is granted. </a:t>
            </a:r>
            <a:endParaRPr b="0" lang="en-US" sz="3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80808"/>
                </a:solidFill>
                <a:latin typeface="Tahoma"/>
              </a:rPr>
              <a:t>The loan applicant must still comply with the SBA’s requirements for experience, financial resources, character and capacity to repay.</a:t>
            </a:r>
            <a:endParaRPr b="0" lang="en-US" sz="3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The successful franchise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Is somewhere between an entrepreneur and an employee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e hard work and drive associated with the entrepreneur are still needed for a successful franchise,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but the typical franchisee neither needs, nor typically has, the vision and constant pursuit of new ideas typical of most entrepreneurs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The </a:t>
            </a:r>
            <a:r>
              <a:rPr b="0" i="1" lang="en-US" sz="4400" spc="-1" strike="noStrike">
                <a:solidFill>
                  <a:srgbClr val="080808"/>
                </a:solidFill>
                <a:latin typeface="Tahoma"/>
              </a:rPr>
              <a:t>franchiser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e originator of a business concept or product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n entrepreneur who chooses to grow by leasing his or her idea to others, the </a:t>
            </a:r>
            <a:r>
              <a:rPr b="0" i="1" lang="en-US" sz="3200" spc="-1" strike="noStrike">
                <a:solidFill>
                  <a:srgbClr val="080808"/>
                </a:solidFill>
                <a:latin typeface="Tahoma"/>
              </a:rPr>
              <a:t>franchisees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, to penetrate the market and expand geographically faster than would be possible for the franchiser to do on his or her own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The </a:t>
            </a:r>
            <a:r>
              <a:rPr b="0" i="1" lang="en-US" sz="4400" spc="-1" strike="noStrike">
                <a:solidFill>
                  <a:srgbClr val="080808"/>
                </a:solidFill>
                <a:latin typeface="Tahoma"/>
              </a:rPr>
              <a:t>franchise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Tahoma"/>
              </a:rPr>
              <a:t>The operator, licensed to use the franchise name and operate under the rules and directives of the franchiser. </a:t>
            </a:r>
            <a:endParaRPr b="0" lang="en-US" sz="3000" spc="-1" strike="noStrike">
              <a:solidFill>
                <a:srgbClr val="080808"/>
              </a:solidFill>
              <a:latin typeface="Tahoma"/>
            </a:endParaRPr>
          </a:p>
          <a:p>
            <a:pPr marL="318960" indent="-31896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Tahoma"/>
              </a:rPr>
              <a:t>The franchisee buys the right to use the franchise, typically for five to ten years. </a:t>
            </a:r>
            <a:endParaRPr b="0" lang="en-US" sz="3000" spc="-1" strike="noStrike">
              <a:solidFill>
                <a:srgbClr val="080808"/>
              </a:solidFill>
              <a:latin typeface="Tahoma"/>
            </a:endParaRPr>
          </a:p>
          <a:p>
            <a:pPr marL="318960" indent="-31896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Tahoma"/>
              </a:rPr>
              <a:t>The agreement can be renewed but this arrangement provides protection to the franchiser against being saddled with a substandard franchisee. </a:t>
            </a:r>
            <a:endParaRPr b="0" lang="en-US" sz="3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Product/trade name franchise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Tahoma"/>
              </a:rPr>
              <a:t>Grant the right to sell a product or use a trade name. Franchisee functions essentially as a distributor.  </a:t>
            </a:r>
            <a:endParaRPr b="0" lang="en-US" sz="30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Tahoma"/>
              </a:rPr>
              <a:t>Independent business benefiting from franchise-wide marketing efforts and name recognition and reputation.  </a:t>
            </a:r>
            <a:endParaRPr b="0" lang="en-US" sz="30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Tahoma"/>
              </a:rPr>
              <a:t>Largely auto/truck dealers, soft drink bottlers and gasoline service stations. </a:t>
            </a:r>
            <a:endParaRPr b="0" lang="en-US" sz="30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Tahoma"/>
              </a:rPr>
              <a:t>20% of franchises, generate over half of the sales in the franchising industry. </a:t>
            </a:r>
            <a:endParaRPr b="0" lang="en-US" sz="3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Business format franchis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 complete business system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e franchisee acquires a proven business model, receives expert guidance and advice and usually has exclusive rights to a geographic territory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e franchiser realizes increased revenue and more rapid expansion than would be feasible otherwise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Franchise agreemen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Tahoma"/>
              </a:rPr>
              <a:t>Establishes standards for the business. </a:t>
            </a:r>
            <a:endParaRPr b="0" lang="en-US" sz="3000" spc="-1" strike="noStrike">
              <a:solidFill>
                <a:srgbClr val="080808"/>
              </a:solidFill>
              <a:latin typeface="Tahoma"/>
            </a:endParaRPr>
          </a:p>
          <a:p>
            <a:pPr marL="315360" indent="-31536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Tahoma"/>
              </a:rPr>
              <a:t>Operating systems, technical expertise, hiring guidelines and management methods are provided, and procedures are specified. </a:t>
            </a:r>
            <a:endParaRPr b="0" lang="en-US" sz="3000" spc="-1" strike="noStrike">
              <a:solidFill>
                <a:srgbClr val="080808"/>
              </a:solidFill>
              <a:latin typeface="Tahoma"/>
            </a:endParaRPr>
          </a:p>
          <a:p>
            <a:pPr marL="315360" indent="-31536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Tahoma"/>
              </a:rPr>
              <a:t>The franchiser provides marketing, and often products, supplies and services. </a:t>
            </a:r>
            <a:endParaRPr b="0" lang="en-US" sz="3000" spc="-1" strike="noStrike">
              <a:solidFill>
                <a:srgbClr val="080808"/>
              </a:solidFill>
              <a:latin typeface="Tahoma"/>
            </a:endParaRPr>
          </a:p>
          <a:p>
            <a:pPr marL="315360" indent="-31536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Tahoma"/>
              </a:rPr>
              <a:t>Training is provided both at start-up and on an ongoing basis. </a:t>
            </a:r>
            <a:endParaRPr b="0" lang="en-US" sz="3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Lowering the risk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Tahoma"/>
              </a:rPr>
              <a:t>Brand name is well known and respected, positioning the entrepreneur in the marketplace. Think McDonald’s. </a:t>
            </a:r>
            <a:endParaRPr b="0" lang="en-US" sz="3000" spc="-1" strike="noStrike">
              <a:solidFill>
                <a:srgbClr val="080808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Tahoma"/>
              </a:rPr>
              <a:t>If the franchise has an established track record, the franchisee is purchasing a proven business model. </a:t>
            </a:r>
            <a:endParaRPr b="0" lang="en-US" sz="3000" spc="-1" strike="noStrike">
              <a:solidFill>
                <a:srgbClr val="080808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Tahoma"/>
              </a:rPr>
              <a:t>Franchiser often provides help with site selection, facility layout, vendors and financing. </a:t>
            </a:r>
            <a:endParaRPr b="0" lang="en-US" sz="3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6T23:10:37Z</dcterms:created>
  <dc:creator>John B. Vinturella</dc:creator>
  <dc:description/>
  <dc:language>en-US</dc:language>
  <cp:lastModifiedBy>User</cp:lastModifiedBy>
  <dcterms:modified xsi:type="dcterms:W3CDTF">2009-03-24T13:25:38Z</dcterms:modified>
  <cp:revision>82</cp:revision>
  <dc:subject/>
  <dc:title>Raising Entrepreneurial Capital </dc:title>
</cp:coreProperties>
</file>